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CA7-C59D-4472-A154-EE2A978B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567-0BC0-445E-B0E2-1FB72A1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CB2-41D5-496E-8BD0-A0CA4FAC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70B-EF09-41F0-86E9-DF2ACE6D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094-B9BA-402A-85F5-5C26807A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D7A-CC02-4FC8-BF8C-4B04FFE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909-103C-41F5-8E5A-5F0CC314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9F2-D522-4191-B392-F7ACD59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1F1-31E5-4DCC-8DF7-0E4A2BA0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304-BD3D-46A1-9AE7-0F8BC20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056-9F8B-4BF8-8273-652101C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B4D-A72A-4168-9C9E-138C421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C543-B5B8-4337-B062-0D873F52A3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ACC2-6E31-4EB8-9980-3B697D672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envenida al 14° Congreso Tributario d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CE-CA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98989"/>
                </a:solidFill>
                <a:latin typeface="Calibri"/>
              </a:rPr>
              <a:t>Juan C. Y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98989"/>
                </a:solidFill>
                <a:latin typeface="Calibri"/>
              </a:rPr>
              <a:t>Año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 motiv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Porque son importantes los temas elegi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Cuando emitimos un dictamen sobre Estados Contables: evaluamos los riesgos de la empresa. El gerenciamiento del riesgo. La definición de los servicios del au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Nuevos enfoques en un contexto económico que ha evolucionado fuertemente en las dos últimas décad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La globalización de los negocios y las empresas transnacio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s crisis y las medidas adoptadas en 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mero la preocupación de la transferencia de las bases imponibles de los impuestos a las ganancias: Los remedios. CDI, Precios de Transferencia de Bienes y Servicios. Las dificultades para valorizar intangi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precios a los fines aduaneros: Posible armonización o remota aproxim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dictamen profesional en materia de precios de transferencia. Su utilidad en materia aduanera: Es posibl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risis y el ries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Nuevos enfoques profesionales. La ley impulsada por el Senador P. Sarbanes y el diputado M. Oxley en EEUU en el 2002 y el alcance/restricciones  de la actividad profesional. La crisis del 2009. El novedoso rol de evaluadores del riesgo. Assur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Nuestro país y nuestra propia crisis en la balanza de pagos: Las restricciones cambiarias y las DJAIs. Un nuevo escollo, el pago de las obligaciones contraídas en el exterior,  con la intervención previa de las autoridades fiscales,  de la autoridad monetaria,  y la Secretaria de Comercio Interio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esgos e Incertid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ley penal tributaria y sus cambios desde el año 1974 en nuestro país, hasta la ley 26.7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ada nueva reforma introduce nuevos conflictos interpretativos. Los entes o personas jurídicas sujetos de la nueva ley Pe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aplicación de la ley Penal en el caso de ilícitos contra las Haciendas Provinciales. La Incertidumbre en materia procesal. Y esta es una mera enunciación. La verdadera Bienvenida estará a cargo del Dr. H. Bertaz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0:16:30Z</dcterms:created>
  <dc:creator>Juan</dc:creator>
  <dc:description/>
  <dc:language>en-US</dc:language>
  <cp:lastModifiedBy>Hernán Castillejo</cp:lastModifiedBy>
  <dcterms:modified xsi:type="dcterms:W3CDTF">2013-10-01T21:55:58Z</dcterms:modified>
  <cp:revision>5</cp:revision>
  <dc:subject/>
  <dc:title>Bienvenida al Congreso Tributario 14° del  CPCE CABA</dc:title>
</cp:coreProperties>
</file>